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F45-E1E5-455E-8772-C779AAB5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D1D-5243-486A-877C-7ABA4075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04B-B0BA-4713-A20D-FA0D820F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3A2-C94B-4147-AD84-8463E5C6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349-BBA9-4595-B8D5-1567F948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8A2-04CE-4EBE-8C8E-99E69E81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D8A-3174-499F-8DB2-593A3D71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EEA-6A08-489B-A043-41201B43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14E-D4C8-4F7A-944E-7A461EA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49E-653C-4A52-9FBD-5BBCDAA1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7BD-CA80-46CC-BFDA-BC88C006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9D2-0037-4861-8F25-9374AE5F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3864-B0F1-420B-91CD-63096881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476280"/>
            <a:ext cx="6648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orld’s Top 10 Tourist Destination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France                                                    76.5 million visitors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773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2. Spain                                                     49.5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133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3. United States                                         45.5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4560" y="236844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492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4. Italy                                                        39.0 million visi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4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5. China                                                     33.2 million visi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28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6. United Kingdom                                    23.4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371628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7. Russia                                                   21.1 million visi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16880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8. Mexico                                                  19.8 million visi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128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65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.Canada                                                  19.7 million visi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5300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5084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10.Austria                                                  18.2 million visi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1:52:21Z</dcterms:created>
  <dc:creator>ISS</dc:creator>
  <dc:description/>
  <dc:language>en-US</dc:language>
  <cp:lastModifiedBy>Rebecca Bairstow</cp:lastModifiedBy>
  <dcterms:modified xsi:type="dcterms:W3CDTF">2006-04-30T14:50:40Z</dcterms:modified>
  <cp:revision>4</cp:revision>
  <dc:subject/>
  <dc:title>Slide 1</dc:title>
</cp:coreProperties>
</file>